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C53-2A82-4DF1-91D3-F853ABDC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661-6835-4AE3-83E3-ACCF09D2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296-C86F-4B0A-B8F3-58A5559E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AEE-1FF9-4012-AD99-6B6F5BCA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63D-C472-46FD-8A80-269E07AB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674-CD34-44F3-A0B6-062BE5A3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769-7912-47D6-9A26-23040D1A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839-F3F4-4E60-89B5-0D6134E9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0E5-046E-43B1-A0DE-6AF0E80E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3A2-3E26-4A7F-A4C1-BE1D36C5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C80-CD31-49F9-A34D-358558CE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140-5067-43B5-89C7-BA2C507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BCC5-BA97-4562-92CC-3BF8D425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 Y LOS ARGONAU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són es el referente de un héroe clásico de las narraciones de aven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són es un héroe que debe hacer una misión, encontrar el vellocino de 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671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el referente de películas concretas com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ículas del agente 007 fue el referente del cine de aventuras de los años        1960-19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lículas de Indiana Jones fue el referente del cine de aventuras del año 19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·Marta Martínez Monterr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Batx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FASES DE LA BUSQUEDA DEL VELLOC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El rey Pelias l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ncarga el vellocin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Jas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Jasón emprende un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rgo viaje y accident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lega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Jasón y los Argonautas al lugar y el enfrentamiento para conseguir el velloc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yuda amorosa y inesperad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recibe Jasón por parte de Medea, hija de Pel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uida accidentad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Jasón y los Argonau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El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retorno victorios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Jasón junto a sus compañ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EL ENCARGO PRE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2087640" cy="2592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292280"/>
            <a:ext cx="8229600" cy="18730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as dos  foto podemos ver a Jasón con el vellocino de 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254952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611280" y="6165720"/>
            <a:ext cx="576000" cy="358920"/>
          </a:xfrm>
          <a:prstGeom prst="leftArrow">
            <a:avLst>
              <a:gd name="adj1" fmla="val 50000"/>
              <a:gd name="adj2" fmla="val 40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El viaje largo y acciden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27520" y="1600200"/>
            <a:ext cx="207972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1636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39640" y="616572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Llegada al lugar y la lucha para conseguir el velloc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a imagen se muestra como Jasón y los Argonautas se enfrentan contra viento y marea a todo lo que se les pone por del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167280" cy="413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6165720"/>
            <a:ext cx="504720" cy="358920"/>
          </a:xfrm>
          <a:prstGeom prst="leftArrow">
            <a:avLst>
              <a:gd name="adj1" fmla="val 50000"/>
              <a:gd name="adj2" fmla="val 35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La ayuda amorosa de Me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recibió la ayuda de Medea gracias a Cipris, quien hizo un conjuro para que esta se enamorara de el y le ayud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3938760"/>
            <a:ext cx="2665440" cy="2369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2376360" cy="230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6165720"/>
            <a:ext cx="574560" cy="28764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La huida accidenta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4640" y="1600200"/>
            <a:ext cx="360216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una vez consiguio el vellocino decidio irse, pero Eetes lo persigue por mar, finalmente Jasón, Medea y los Argonautas  regresan sanos y sal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6165720"/>
            <a:ext cx="574560" cy="358920"/>
          </a:xfrm>
          <a:prstGeom prst="leftArrow">
            <a:avLst>
              <a:gd name="adj1" fmla="val 50000"/>
              <a:gd name="adj2" fmla="val 4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El retorno victori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y los Argonautas regresan sanos y salvos a Yolco, y la historia finaliza así, pero hay leyendas que nos cuentan cómo Jasón ayudado por Medea reconquista su tr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264120" cy="3671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6165720"/>
            <a:ext cx="504720" cy="358920"/>
          </a:xfrm>
          <a:prstGeom prst="leftArrow">
            <a:avLst>
              <a:gd name="adj1" fmla="val 50000"/>
              <a:gd name="adj2" fmla="val 35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Argonauticas de Apolonio de Rodas: El mito de Jasón y los Argonau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asón es el referente del cine de aventuras en peliculas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iaje Fantástico de Simb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Halcón Mal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cah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disea en el esp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22:18Z</dcterms:created>
  <dc:creator>Jose Vte</dc:creator>
  <dc:description/>
  <dc:language>en-US</dc:language>
  <cp:lastModifiedBy>Jose Vte</cp:lastModifiedBy>
  <dcterms:modified xsi:type="dcterms:W3CDTF">2010-01-10T21:41:22Z</dcterms:modified>
  <cp:revision>3</cp:revision>
  <dc:subject/>
  <dc:title>JASON Y LOS ARGONAUTAS</dc:title>
</cp:coreProperties>
</file>